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B9D7-B17C-4D23-85F8-B922F070915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zervirano mjesto broja slajd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6DB2-2DFB-49EB-BDDE-70180BAE789B}" type="slidenum">
              <a:rPr b="0" lang="hr-H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zervirano mjesto broja slajd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E556-544A-46FE-96D9-CB254986CD79}" type="slidenum">
              <a:rPr b="0" lang="hr-H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zervirano mjesto broja slajd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E9DD-830E-451C-B3C9-DDD24AB38BD6}" type="slidenum">
              <a:rPr b="0" lang="hr-H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zervirano mjesto broja slajd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F215-7ACD-4CDA-B1E0-E6A7CDCD7432}" type="slidenum">
              <a:rPr b="0" lang="hr-H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DE61-68D4-411A-B200-0F41F276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826-82DC-4BF3-AA87-6B486B01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995-240C-46A5-9108-A81D00D2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894-B6B5-4222-8D26-EE6EEE92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8F0-434D-40D0-80DA-A393A854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055-BF70-4B50-991D-AA612172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5C4-73BA-493A-8AC4-FC330791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280-C46C-4275-A618-3850596D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35E3-1244-4B3C-90B7-36B821EA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141-6936-43FB-9B3D-75CC9A2C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F65-2BB8-42BE-8A71-CE8928C0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7151-CADA-4562-BFCF-D1CBCF91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775A-EAD1-4B6E-98A0-AE5615534C1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9160" y="2173320"/>
            <a:ext cx="9433080" cy="114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ADMINISTRATIVNO I FINANCIJSKO VOĐENJE PROJEKTA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46195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Calibri"/>
              </a:rPr>
              <a:t>mr.sc. Latinka Janjanin, dipl. ing. bio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alibri"/>
              </a:rPr>
              <a:t>Stručna savjetnica za prirodne susta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Slika 5" descr=""/>
          <p:cNvPicPr/>
          <p:nvPr/>
        </p:nvPicPr>
        <p:blipFill>
          <a:blip r:embed="rId1"/>
          <a:stretch/>
        </p:blipFill>
        <p:spPr>
          <a:xfrm>
            <a:off x="4451400" y="247680"/>
            <a:ext cx="3289320" cy="1866960"/>
          </a:xfrm>
          <a:prstGeom prst="rect">
            <a:avLst/>
          </a:prstGeom>
          <a:ln w="0">
            <a:noFill/>
          </a:ln>
        </p:spPr>
      </p:pic>
      <p:pic>
        <p:nvPicPr>
          <p:cNvPr id="51" name="Slika 6" descr=""/>
          <p:cNvPicPr/>
          <p:nvPr/>
        </p:nvPicPr>
        <p:blipFill>
          <a:blip r:embed="rId2"/>
          <a:stretch/>
        </p:blipFill>
        <p:spPr>
          <a:xfrm>
            <a:off x="217440" y="247680"/>
            <a:ext cx="2143080" cy="807840"/>
          </a:xfrm>
          <a:prstGeom prst="rect">
            <a:avLst/>
          </a:prstGeom>
          <a:ln w="0">
            <a:noFill/>
          </a:ln>
        </p:spPr>
      </p:pic>
      <p:pic>
        <p:nvPicPr>
          <p:cNvPr id="52" name="Slika 7" descr=""/>
          <p:cNvPicPr/>
          <p:nvPr/>
        </p:nvPicPr>
        <p:blipFill>
          <a:blip r:embed="rId3"/>
          <a:stretch/>
        </p:blipFill>
        <p:spPr>
          <a:xfrm>
            <a:off x="8205840" y="254160"/>
            <a:ext cx="3814560" cy="396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8" descr=""/>
          <p:cNvPicPr/>
          <p:nvPr/>
        </p:nvPicPr>
        <p:blipFill>
          <a:blip r:embed="rId4"/>
          <a:stretch/>
        </p:blipFill>
        <p:spPr>
          <a:xfrm>
            <a:off x="4495680" y="3840120"/>
            <a:ext cx="3200400" cy="506520"/>
          </a:xfrm>
          <a:prstGeom prst="rect">
            <a:avLst/>
          </a:prstGeom>
          <a:ln w="0">
            <a:noFill/>
          </a:ln>
        </p:spPr>
      </p:pic>
      <p:sp>
        <p:nvSpPr>
          <p:cNvPr id="54" name="Podnaslov 2"/>
          <p:cNvSpPr/>
          <p:nvPr/>
        </p:nvSpPr>
        <p:spPr>
          <a:xfrm>
            <a:off x="4416480" y="5759280"/>
            <a:ext cx="335916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Calibri"/>
                <a:ea typeface="Arial"/>
              </a:rPr>
              <a:t>Ljubljana, 25.09.20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Naslov 1"/>
          <p:cNvSpPr/>
          <p:nvPr/>
        </p:nvSpPr>
        <p:spPr>
          <a:xfrm>
            <a:off x="2000160" y="3268800"/>
            <a:ext cx="819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3. Sastanak projektnih partnera i Stručne radne grupe projek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kstniOkvir 11"/>
          <p:cNvSpPr/>
          <p:nvPr/>
        </p:nvSpPr>
        <p:spPr>
          <a:xfrm>
            <a:off x="1523880" y="4575240"/>
            <a:ext cx="3946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Calibri"/>
                <a:ea typeface="Arial"/>
              </a:rPr>
              <a:t>Ingrid Paljar, dipl.ing.a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alibri"/>
                <a:ea typeface="Arial"/>
              </a:rPr>
              <a:t>Voditeljica projekta, ravnateljica Za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lika 3" descr=""/>
          <p:cNvPicPr/>
          <p:nvPr/>
        </p:nvPicPr>
        <p:blipFill>
          <a:blip r:embed="rId5"/>
          <a:stretch/>
        </p:blipFill>
        <p:spPr>
          <a:xfrm>
            <a:off x="9879120" y="5899320"/>
            <a:ext cx="1865160" cy="523800"/>
          </a:xfrm>
          <a:prstGeom prst="rect">
            <a:avLst/>
          </a:prstGeom>
          <a:ln w="0">
            <a:noFill/>
          </a:ln>
        </p:spPr>
      </p:pic>
      <p:pic>
        <p:nvPicPr>
          <p:cNvPr id="58" name="Slika 4" descr=""/>
          <p:cNvPicPr/>
          <p:nvPr/>
        </p:nvPicPr>
        <p:blipFill>
          <a:blip r:embed="rId6"/>
          <a:stretch/>
        </p:blipFill>
        <p:spPr>
          <a:xfrm>
            <a:off x="2166840" y="5721480"/>
            <a:ext cx="803520" cy="882360"/>
          </a:xfrm>
          <a:prstGeom prst="rect">
            <a:avLst/>
          </a:prstGeom>
          <a:ln w="0">
            <a:noFill/>
          </a:ln>
        </p:spPr>
      </p:pic>
      <p:pic>
        <p:nvPicPr>
          <p:cNvPr id="59" name="Slika 12" descr=""/>
          <p:cNvPicPr/>
          <p:nvPr/>
        </p:nvPicPr>
        <p:blipFill>
          <a:blip r:embed="rId7"/>
          <a:stretch/>
        </p:blipFill>
        <p:spPr>
          <a:xfrm>
            <a:off x="7759800" y="5721480"/>
            <a:ext cx="1190520" cy="846000"/>
          </a:xfrm>
          <a:prstGeom prst="rect">
            <a:avLst/>
          </a:prstGeom>
          <a:ln w="0">
            <a:noFill/>
          </a:ln>
        </p:spPr>
      </p:pic>
      <p:pic>
        <p:nvPicPr>
          <p:cNvPr id="60" name="Slika 13" descr=""/>
          <p:cNvPicPr/>
          <p:nvPr/>
        </p:nvPicPr>
        <p:blipFill>
          <a:blip r:embed="rId8"/>
          <a:stretch/>
        </p:blipFill>
        <p:spPr>
          <a:xfrm>
            <a:off x="376200" y="5781600"/>
            <a:ext cx="1009800" cy="758880"/>
          </a:xfrm>
          <a:prstGeom prst="rect">
            <a:avLst/>
          </a:prstGeom>
          <a:ln w="0">
            <a:noFill/>
          </a:ln>
        </p:spPr>
      </p:pic>
      <p:pic>
        <p:nvPicPr>
          <p:cNvPr id="61" name="Slika 14" descr=""/>
          <p:cNvPicPr/>
          <p:nvPr/>
        </p:nvPicPr>
        <p:blipFill>
          <a:blip r:embed="rId9"/>
          <a:stretch/>
        </p:blipFill>
        <p:spPr>
          <a:xfrm>
            <a:off x="3613320" y="5678640"/>
            <a:ext cx="8967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3440" y="1290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SADRŽAJ: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Slika 6" descr=""/>
          <p:cNvPicPr/>
          <p:nvPr/>
        </p:nvPicPr>
        <p:blipFill>
          <a:blip r:embed="rId1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64" name="Slika 7" descr=""/>
          <p:cNvPicPr/>
          <p:nvPr/>
        </p:nvPicPr>
        <p:blipFill>
          <a:blip r:embed="rId2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603440" y="2544840"/>
            <a:ext cx="914400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vješće o napretku br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osnovne inform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financijski di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jedničko izvješće vodećeg partnera br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osnovne inform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potrebna dokumenta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Slika 9" descr=""/>
          <p:cNvPicPr/>
          <p:nvPr/>
        </p:nvPicPr>
        <p:blipFill>
          <a:blip r:embed="rId3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67" name="Slika 10" descr=""/>
          <p:cNvPicPr/>
          <p:nvPr/>
        </p:nvPicPr>
        <p:blipFill>
          <a:blip r:embed="rId4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806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IZVJEŠĆE O NAPRETKU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Osnovne informacije -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Slika 5" descr=""/>
          <p:cNvPicPr/>
          <p:nvPr/>
        </p:nvPicPr>
        <p:blipFill>
          <a:blip r:embed="rId1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71" name="Slika 6" descr=""/>
          <p:cNvPicPr/>
          <p:nvPr/>
        </p:nvPicPr>
        <p:blipFill>
          <a:blip r:embed="rId2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pic>
        <p:nvPicPr>
          <p:cNvPr id="72" name="Slika 7" descr=""/>
          <p:cNvPicPr/>
          <p:nvPr/>
        </p:nvPicPr>
        <p:blipFill>
          <a:blip r:embed="rId3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838080" y="2282400"/>
            <a:ext cx="105156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dnji datum predaje Izvješća 31.08.20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vi prihvatljivi troškovi uneseni i zaključeni u ISARR-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vješće proslijeđeno nacionalnom kontroloru → poštom (original i kopij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čuni i financijski dokumenti i prilozi posloženi prema uputama iz Smjernica za izvještavanje za korisnik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Slika 10" descr=""/>
          <p:cNvPicPr/>
          <p:nvPr/>
        </p:nvPicPr>
        <p:blipFill>
          <a:blip r:embed="rId4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zervirano mjesto datuma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5158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IZVJEŠĆE O NAPRETKU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Financijski dio -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Slika 7" descr=""/>
          <p:cNvPicPr/>
          <p:nvPr/>
        </p:nvPicPr>
        <p:blipFill>
          <a:blip r:embed="rId1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79" name="Slika 8" descr=""/>
          <p:cNvPicPr/>
          <p:nvPr/>
        </p:nvPicPr>
        <p:blipFill>
          <a:blip r:embed="rId2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  <p:pic>
        <p:nvPicPr>
          <p:cNvPr id="80" name="Slika 9" descr=""/>
          <p:cNvPicPr/>
          <p:nvPr/>
        </p:nvPicPr>
        <p:blipFill>
          <a:blip r:embed="rId3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81" name="Slika 10" descr=""/>
          <p:cNvPicPr/>
          <p:nvPr/>
        </p:nvPicPr>
        <p:blipFill>
          <a:blip r:embed="rId4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217440" y="1609560"/>
          <a:ext cx="11779200" cy="4265640"/>
        </p:xfrm>
        <a:graphic>
          <a:graphicData uri="http://schemas.openxmlformats.org/drawingml/2006/table">
            <a:tbl>
              <a:tblPr/>
              <a:tblGrid>
                <a:gridCol w="1698840"/>
                <a:gridCol w="1120680"/>
                <a:gridCol w="1119240"/>
                <a:gridCol w="1120680"/>
                <a:gridCol w="1119240"/>
                <a:gridCol w="1120680"/>
                <a:gridCol w="1119240"/>
                <a:gridCol w="1120680"/>
                <a:gridCol w="1119240"/>
                <a:gridCol w="1120680"/>
              </a:tblGrid>
              <a:tr h="189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ica 1</a:t>
                      </a:r>
                      <a:r>
                        <a:rPr b="0" lang="hr-H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gridSpan="10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KAZ ODOBRENIH, PLANIRANIH I UTROŠENIH SREDSTAVA PO PROJEKTNOM PARTNE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vod za prostorno uređenje IŽ (V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ska općina Kopar (PP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 Pula (PP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EGORI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OSOBL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234,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960,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465,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12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29,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42,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VANJSKIH USLU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.946,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086,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.229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29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.422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.422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ULAG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24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24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ATIVNI TROŠKOV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11,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48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4,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,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,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UPNO/Skupa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.216,7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.518,6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71,73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.229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29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.309,26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.029,88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42,63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6920">
                <a:tc gridSpan="10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alni razvojni centar Kopar (PP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-Fakultet za arhitekturu (PP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 Buzet (PP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EGORI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OSOBL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76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73,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.741,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890,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91,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625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40,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VANJSKIH USLU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256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2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5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ULAG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ATIVNI TROŠKOV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44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17,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,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10,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13,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5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UPNO/Skupa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300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977,52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92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.152,11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.204,4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691,22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.020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760,5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40,86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88640">
                <a:tc gridSpan="7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or: Prilog 2. - Ugovora o sufinanciranju i ISAR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zervirano mjesto datuma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515880"/>
            <a:ext cx="1051560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IZVJEŠĆE O NAPRETKU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Financijski dio -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Slika 7" descr=""/>
          <p:cNvPicPr/>
          <p:nvPr/>
        </p:nvPicPr>
        <p:blipFill>
          <a:blip r:embed="rId1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87" name="Slika 8" descr=""/>
          <p:cNvPicPr/>
          <p:nvPr/>
        </p:nvPicPr>
        <p:blipFill>
          <a:blip r:embed="rId2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  <p:pic>
        <p:nvPicPr>
          <p:cNvPr id="88" name="Slika 9" descr=""/>
          <p:cNvPicPr/>
          <p:nvPr/>
        </p:nvPicPr>
        <p:blipFill>
          <a:blip r:embed="rId3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89" name="Slika 10" descr=""/>
          <p:cNvPicPr/>
          <p:nvPr/>
        </p:nvPicPr>
        <p:blipFill>
          <a:blip r:embed="rId4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147600" y="2198520"/>
          <a:ext cx="5113440" cy="2954520"/>
        </p:xfrm>
        <a:graphic>
          <a:graphicData uri="http://schemas.openxmlformats.org/drawingml/2006/table">
            <a:tbl>
              <a:tblPr/>
              <a:tblGrid>
                <a:gridCol w="2595600"/>
                <a:gridCol w="996840"/>
                <a:gridCol w="1521000"/>
              </a:tblGrid>
              <a:tr h="2145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ica 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GLED IZDATAKA PO KATEGORIJAMA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EGOR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upno prihvatljivi troškovi projekta (do 01.05.2016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9.227,07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2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virni iznos zatraženih EFRR sredstava                 (do 31.12.2015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0,00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avljeni izdaci u 1. Izvješću (do 31.07.2015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838,44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or: Prilog 2. - Ugovora o sufinanciranju ISA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TekstniOkvir 1"/>
          <p:cNvSpPr/>
          <p:nvPr/>
        </p:nvSpPr>
        <p:spPr>
          <a:xfrm>
            <a:off x="5213520" y="1521000"/>
            <a:ext cx="80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  <a:ea typeface="Arial"/>
              </a:rPr>
              <a:t>Grafikon 1</a:t>
            </a:r>
            <a:r>
              <a:rPr b="0" lang="hr-HR" sz="9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Slika 3" descr=""/>
          <p:cNvPicPr/>
          <p:nvPr/>
        </p:nvPicPr>
        <p:blipFill>
          <a:blip r:embed="rId5"/>
          <a:stretch/>
        </p:blipFill>
        <p:spPr>
          <a:xfrm>
            <a:off x="4919760" y="1741320"/>
            <a:ext cx="72723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zervirano mjesto datuma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Slika 5" descr=""/>
          <p:cNvPicPr/>
          <p:nvPr/>
        </p:nvPicPr>
        <p:blipFill>
          <a:blip r:embed="rId1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  <p:pic>
        <p:nvPicPr>
          <p:cNvPr id="96" name="Slika 6" descr=""/>
          <p:cNvPicPr/>
          <p:nvPr/>
        </p:nvPicPr>
        <p:blipFill>
          <a:blip r:embed="rId2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97" name="Slika 7" descr=""/>
          <p:cNvPicPr/>
          <p:nvPr/>
        </p:nvPicPr>
        <p:blipFill>
          <a:blip r:embed="rId3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98" name="Slika 8" descr=""/>
          <p:cNvPicPr/>
          <p:nvPr/>
        </p:nvPicPr>
        <p:blipFill>
          <a:blip r:embed="rId4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771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IZVJEŠĆE O NAPRETKU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Financijski dio -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TekstniOkvir 15"/>
          <p:cNvSpPr/>
          <p:nvPr/>
        </p:nvSpPr>
        <p:spPr>
          <a:xfrm>
            <a:off x="28440" y="1857240"/>
            <a:ext cx="1430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  <a:ea typeface="Arial"/>
              </a:rPr>
              <a:t>Grafikon 2</a:t>
            </a:r>
            <a:r>
              <a:rPr b="0" lang="hr-HR" sz="9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avokutnik 17"/>
          <p:cNvSpPr/>
          <p:nvPr/>
        </p:nvSpPr>
        <p:spPr>
          <a:xfrm>
            <a:off x="6264360" y="5135400"/>
            <a:ext cx="314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  <a:ea typeface="Arial"/>
              </a:rPr>
              <a:t>Izvor: Prilog 2. - Ugovora o sufinanciranju i ISAR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ravokutnik 18"/>
          <p:cNvSpPr/>
          <p:nvPr/>
        </p:nvSpPr>
        <p:spPr>
          <a:xfrm>
            <a:off x="0" y="5641920"/>
            <a:ext cx="3116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  <a:ea typeface="Arial"/>
              </a:rPr>
              <a:t>Izvor: Prilog 2. - Ugovora o sufinanciranju i ISAR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365880" y="2328840"/>
          <a:ext cx="5748480" cy="2811600"/>
        </p:xfrm>
        <a:graphic>
          <a:graphicData uri="http://schemas.openxmlformats.org/drawingml/2006/table">
            <a:tbl>
              <a:tblPr/>
              <a:tblGrid>
                <a:gridCol w="2187720"/>
                <a:gridCol w="1187280"/>
                <a:gridCol w="1185840"/>
                <a:gridCol w="1187640"/>
              </a:tblGrid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ica 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JEK PRORAČUNA PROJEKTA ZA 2015. GODI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u 1. razdoblja izvješta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ostalo sredst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vod za prostorno uređenje IŽ (V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.518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71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.446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 Kopar (PP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29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29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 Pula (PP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.029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42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.687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RC Kopar (PP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d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977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d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9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d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985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dfec"/>
                    </a:solidFill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kultet za arhitekturu (PP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.204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691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513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 Buzet (PP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760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40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019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  <p:pic>
        <p:nvPicPr>
          <p:cNvPr id="104" name="Slika 1" descr=""/>
          <p:cNvPicPr/>
          <p:nvPr/>
        </p:nvPicPr>
        <p:blipFill>
          <a:blip r:embed="rId5"/>
          <a:stretch/>
        </p:blipFill>
        <p:spPr>
          <a:xfrm>
            <a:off x="28440" y="2139840"/>
            <a:ext cx="623592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8080" y="2689200"/>
            <a:ext cx="10515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odeći partner podnosi ZTT-u Izvješće najkasnije do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31.12.2015.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Ugovor o sufinanciranju-Prilog 3-Kalendar izvještavan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P trebaju potvrđene troškove podnijeti VP-u najkasnije do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30.11.2015.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čl. 10., Sporazuma o partnerstv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kvirni iznos zatraženih EFRR sredstava kod 1. Izvješća=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100.000,00 EU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P mora poslati svakom PP kopiju Izvješća podnesenog ZTT-u (st. 4., čl. 10., Sporazuma o partnerstvu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zervirano mjesto datuma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Slika 5" descr=""/>
          <p:cNvPicPr/>
          <p:nvPr/>
        </p:nvPicPr>
        <p:blipFill>
          <a:blip r:embed="rId1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  <p:pic>
        <p:nvPicPr>
          <p:cNvPr id="109" name="Slika 6" descr=""/>
          <p:cNvPicPr/>
          <p:nvPr/>
        </p:nvPicPr>
        <p:blipFill>
          <a:blip r:embed="rId2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110" name="Slika 7" descr=""/>
          <p:cNvPicPr/>
          <p:nvPr/>
        </p:nvPicPr>
        <p:blipFill>
          <a:blip r:embed="rId3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111" name="Slika 8" descr=""/>
          <p:cNvPicPr/>
          <p:nvPr/>
        </p:nvPicPr>
        <p:blipFill>
          <a:blip r:embed="rId4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sp>
        <p:nvSpPr>
          <p:cNvPr id="112" name="Naslov 1"/>
          <p:cNvSpPr/>
          <p:nvPr/>
        </p:nvSpPr>
        <p:spPr>
          <a:xfrm>
            <a:off x="838080" y="108108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ZAJEDNIČKO IZVJEŠĆE VODEĆEG PARTNERA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Osnovne informacije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8080" y="2334960"/>
            <a:ext cx="1051560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PP trebaju do </a:t>
            </a:r>
            <a:r>
              <a:rPr b="1" i="1" lang="hr-HR" sz="2800" spc="-1" strike="noStrike" u="sng">
                <a:solidFill>
                  <a:srgbClr val="000000"/>
                </a:solidFill>
                <a:uFillTx/>
                <a:latin typeface="Calibri"/>
              </a:rPr>
              <a:t>30.11.2015.</a:t>
            </a: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 godine VP-u dostavit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piju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Izjave o potvrđenim izdacima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tpisanu od strane nacionalnog kontrol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piju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Popisa računa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slije potvrde potpisanu od strane nacionalnog kontrol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tvrđeno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Financijsko izvješće partnera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(origi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tvrđeno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zvješće partnera o provedenim aktivnostima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(origi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zervirano mjesto datuma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Slika 5" descr=""/>
          <p:cNvPicPr/>
          <p:nvPr/>
        </p:nvPicPr>
        <p:blipFill>
          <a:blip r:embed="rId1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  <p:pic>
        <p:nvPicPr>
          <p:cNvPr id="117" name="Slika 6" descr=""/>
          <p:cNvPicPr/>
          <p:nvPr/>
        </p:nvPicPr>
        <p:blipFill>
          <a:blip r:embed="rId2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118" name="Slika 7" descr=""/>
          <p:cNvPicPr/>
          <p:nvPr/>
        </p:nvPicPr>
        <p:blipFill>
          <a:blip r:embed="rId3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119" name="Slika 8" descr=""/>
          <p:cNvPicPr/>
          <p:nvPr/>
        </p:nvPicPr>
        <p:blipFill>
          <a:blip r:embed="rId4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sp>
        <p:nvSpPr>
          <p:cNvPr id="120" name="Naslov 1"/>
          <p:cNvSpPr/>
          <p:nvPr/>
        </p:nvSpPr>
        <p:spPr>
          <a:xfrm>
            <a:off x="838080" y="100980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ZAJEDNIČKO IZVJEŠĆE VODEĆEG PARTNERA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Potrebna dokumentacij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2234880"/>
            <a:ext cx="9144000" cy="16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HVALA NA PAŽNJI</a:t>
            </a:r>
            <a:br>
              <a:rPr sz="43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523880" y="42670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Slika 5" descr=""/>
          <p:cNvPicPr/>
          <p:nvPr/>
        </p:nvPicPr>
        <p:blipFill>
          <a:blip r:embed="rId1"/>
          <a:stretch/>
        </p:blipFill>
        <p:spPr>
          <a:xfrm>
            <a:off x="4451400" y="247680"/>
            <a:ext cx="3289320" cy="1866960"/>
          </a:xfrm>
          <a:prstGeom prst="rect">
            <a:avLst/>
          </a:prstGeom>
          <a:ln w="0">
            <a:noFill/>
          </a:ln>
        </p:spPr>
      </p:pic>
      <p:pic>
        <p:nvPicPr>
          <p:cNvPr id="124" name="Slika 6" descr=""/>
          <p:cNvPicPr/>
          <p:nvPr/>
        </p:nvPicPr>
        <p:blipFill>
          <a:blip r:embed="rId2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pic>
        <p:nvPicPr>
          <p:cNvPr id="126" name="Slika 8" descr=""/>
          <p:cNvPicPr/>
          <p:nvPr/>
        </p:nvPicPr>
        <p:blipFill>
          <a:blip r:embed="rId4"/>
          <a:stretch/>
        </p:blipFill>
        <p:spPr>
          <a:xfrm>
            <a:off x="4278240" y="3963960"/>
            <a:ext cx="363528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5T12:58:45Z</dcterms:created>
  <dc:creator>Sandro Krizman</dc:creator>
  <dc:description/>
  <dc:language>en-US</dc:language>
  <cp:lastModifiedBy>Sandro Krizman</cp:lastModifiedBy>
  <dcterms:modified xsi:type="dcterms:W3CDTF">2015-09-17T08:05:06Z</dcterms:modified>
  <cp:revision>111</cp:revision>
  <dc:subject/>
  <dc:title>ADMINISTRATIVNO I FINANCIJSKO STANJE PROJEKTA</dc:title>
</cp:coreProperties>
</file>