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BF4C-96C5-4FF8-AE2A-9EF4E5D4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7D14-3F91-4666-896B-6895C6F0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BF77-F895-4C57-BB1E-642D77A5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084D-0314-42F6-B4F7-FE90DA27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FE04-5CA0-42A7-955F-7ED68698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8B62-A4E6-4EF6-B561-3932D777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7608-D2CD-48AD-AEAC-A5E7E2C9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C258-1EA1-4300-8F8E-A777389C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4C89-84A5-43F9-AE7F-13698DF7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BB29-DA07-4D23-8728-99770DE1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A9A8-3B54-458A-949F-8573E313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EB7C-D3A4-42CA-9FA2-1718B004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2E50-01C1-4CC7-86D4-6C9B56FD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09BA-05AF-4EA3-BC64-4FCE19E9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36D9-3F38-46F7-A5D0-C7110DFC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46AF-ECA6-4434-80A0-0AA0DCF2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0FA0-D240-4A08-84B7-BDEAECC1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B806-D3AA-406B-9772-363FA10E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D1F5-3C4B-4BA3-83E3-04CB709A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D8F4-15E8-4DD4-82DC-1636513D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82B2-3F21-46E3-884C-C57313AA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3601-A941-478B-BAE2-4B86C7E1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D632-2B6A-4403-BEC5-89BFB1E2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6D45-B7BC-4520-86D1-FA496665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hr-HR" sz="6000" spc="-1" strike="noStrike">
                <a:solidFill>
                  <a:srgbClr val="000000"/>
                </a:solidFill>
                <a:latin typeface="Calibri Light"/>
              </a:rPr>
              <a:t>Uredite stil naslova matrice</a:t>
            </a:r>
            <a:endParaRPr b="0" lang="sr-Latn-R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hr-H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hr-HR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hr-H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B9AB87-523E-4C2D-B53B-667911B0CF62}" type="slidenum">
              <a:rPr b="0" lang="hr-H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sr-Latn-R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sr-Latn-R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sr-Latn-R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sr-Latn-R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hr-HR" sz="4400" spc="-1" strike="noStrike">
                <a:solidFill>
                  <a:srgbClr val="000000"/>
                </a:solidFill>
                <a:latin typeface="Calibri Light"/>
              </a:rPr>
              <a:t>Uredite stil naslova matrice</a:t>
            </a:r>
            <a:endParaRPr b="0" lang="sr-Latn-R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Uredite stilove teksta matrice</a:t>
            </a: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Druga razina</a:t>
            </a:r>
            <a:endParaRPr b="0" lang="sr-Latn-R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Treća razina</a:t>
            </a:r>
            <a:endParaRPr b="0" lang="sr-Latn-R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Četvrta razina</a:t>
            </a: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Peta razina</a:t>
            </a: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hr-H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hr-HR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hr-H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B9465A-96BA-462D-B857-62B38CC1C4F5}" type="slidenum">
              <a:rPr b="0" lang="hr-H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2426400"/>
            <a:ext cx="9143640" cy="129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0000"/>
          </a:bodyPr>
          <a:p>
            <a:pPr indent="0" algn="ctr">
              <a:lnSpc>
                <a:spcPct val="150000"/>
              </a:lnSpc>
              <a:buNone/>
            </a:pPr>
            <a:br>
              <a:rPr sz="2000"/>
            </a:b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PUT-UP ISTRE</a:t>
            </a:r>
            <a:br>
              <a:rPr sz="2000"/>
            </a:br>
            <a:r>
              <a:rPr b="1" lang="hr-HR" sz="2700" spc="-1" strike="noStrike">
                <a:solidFill>
                  <a:srgbClr val="000000"/>
                </a:solidFill>
                <a:latin typeface="Calibri"/>
              </a:rPr>
              <a:t>PROVEDENE AKTIVNOSTI I FINANCIJSKI IZVJEŠTAJ GRADA PULE</a:t>
            </a:r>
            <a:endParaRPr b="0" lang="sr-Latn-R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878640"/>
            <a:ext cx="914364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3. Sastanak projektnih partnera i Stručne radne grupe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Karmela Maren, mag. ing. ar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jubljana, 25.09.20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O:\Prostorno Planiranje\Karmela\PUT UP ISTRE\08_LOGOTIP\put-up_logo_color_CMYK.jpg"/>
          <p:cNvPicPr/>
          <p:nvPr/>
        </p:nvPicPr>
        <p:blipFill>
          <a:blip r:embed="rId1"/>
          <a:stretch/>
        </p:blipFill>
        <p:spPr>
          <a:xfrm>
            <a:off x="8750160" y="44640"/>
            <a:ext cx="1522080" cy="863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O:\Prostorno Planiranje\Karmela\PUT UP ISTRE\08_LOGOTIP\logo\si-hr_public_croatian_hr\4C_RGB\OP_SI-HR_INVESTING_cro_RGB.jpg"/>
          <p:cNvPicPr/>
          <p:nvPr/>
        </p:nvPicPr>
        <p:blipFill>
          <a:blip r:embed="rId2"/>
          <a:stretch/>
        </p:blipFill>
        <p:spPr>
          <a:xfrm>
            <a:off x="4526640" y="5949360"/>
            <a:ext cx="3153240" cy="575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O:\Prostorno Planiranje\Karmela\PUT UP ISTRE\08_LOGOTIP\logo\si-hr_logo_croatian_hr\4C\OP_SI-HR_hr_rgb.jpg"/>
          <p:cNvPicPr/>
          <p:nvPr/>
        </p:nvPicPr>
        <p:blipFill>
          <a:blip r:embed="rId3"/>
          <a:stretch/>
        </p:blipFill>
        <p:spPr>
          <a:xfrm>
            <a:off x="1847520" y="188640"/>
            <a:ext cx="2345400" cy="575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4"/>
          <a:srcRect l="18316" t="16244" r="33853" b="12879"/>
          <a:stretch/>
        </p:blipFill>
        <p:spPr>
          <a:xfrm>
            <a:off x="5591880" y="1196640"/>
            <a:ext cx="1037160" cy="1229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1080" y="1350000"/>
            <a:ext cx="8229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hr-HR" sz="3600" spc="-1" strike="noStrike">
                <a:solidFill>
                  <a:srgbClr val="000000"/>
                </a:solidFill>
                <a:latin typeface="Calibri Light"/>
              </a:rPr>
              <a:t>Provedene aktivnosti_RP1</a:t>
            </a:r>
            <a:endParaRPr b="0" lang="sr-Latn-R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81080" y="2205000"/>
            <a:ext cx="8229240" cy="38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Potpisivanje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Sporazuma o partnerstvu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, Pula, 18.05.2015.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Sudjelovanje na prvom sastanku </a:t>
            </a:r>
            <a:r>
              <a:rPr b="0" lang="hr-HR" sz="1600" spc="-1" strike="noStrike">
                <a:solidFill>
                  <a:srgbClr val="000000"/>
                </a:solidFill>
                <a:latin typeface="AcadEref"/>
              </a:rPr>
              <a:t>→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Kick off meeting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u Buzetu, 20.05.2015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ISARR </a:t>
            </a:r>
            <a:r>
              <a:rPr b="1" lang="hr-HR" sz="1600" spc="-1" strike="noStrike">
                <a:solidFill>
                  <a:srgbClr val="000000"/>
                </a:solidFill>
                <a:latin typeface="AcadEref"/>
              </a:rPr>
              <a:t>→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instalacija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lvl="1" marL="1076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unos troškova u ISARR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I. Izvješće partnera o napretku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(IA1_izvješće o aktivnostima + FI1_financijsko izvješće) </a:t>
            </a:r>
            <a:r>
              <a:rPr b="0" lang="hr-HR" sz="1600" spc="-1" strike="noStrike">
                <a:solidFill>
                  <a:srgbClr val="000000"/>
                </a:solidFill>
                <a:latin typeface="AcadEref"/>
              </a:rPr>
              <a:t>→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NACIONALNI KONTROLORI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Sastanak u Puli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, 20.07.2015. </a:t>
            </a:r>
            <a:r>
              <a:rPr b="0" lang="hr-HR" sz="1600" spc="-1" strike="noStrike">
                <a:solidFill>
                  <a:srgbClr val="000000"/>
                </a:solidFill>
                <a:latin typeface="AcadEref"/>
              </a:rPr>
              <a:t>→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sastanak projektnih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partnera, sastanak stručne radne grupe, sastanak upravnog odbora.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1001"/>
              </a:spcBef>
              <a:buNone/>
            </a:pP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3600"/>
              </a:lnSpc>
              <a:spcBef>
                <a:spcPts val="1001"/>
              </a:spcBef>
              <a:buNone/>
            </a:pPr>
            <a:endParaRPr b="0" lang="sr-Latn-RS" sz="33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ts val="36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sr-Latn-R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O:\Prostorno Planiranje\Karmela\PUT UP ISTRE\08_LOGOTIP\logo\si-hr_logo_croatian_hr\4C\OP_SI-HR_hr_rgb.jpg"/>
          <p:cNvPicPr/>
          <p:nvPr/>
        </p:nvPicPr>
        <p:blipFill>
          <a:blip r:embed="rId1"/>
          <a:stretch/>
        </p:blipFill>
        <p:spPr>
          <a:xfrm>
            <a:off x="4943880" y="188640"/>
            <a:ext cx="2345040" cy="57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O:\Prostorno Planiranje\Karmela\PUT UP ISTRE\08_LOGOTIP\logo\si-hr_public_croatian_hr\4C_RGB\OP_SI-HR_INVESTING_cro_RGB.jpg"/>
          <p:cNvPicPr/>
          <p:nvPr/>
        </p:nvPicPr>
        <p:blipFill>
          <a:blip r:embed="rId2"/>
          <a:stretch/>
        </p:blipFill>
        <p:spPr>
          <a:xfrm>
            <a:off x="4943880" y="6237360"/>
            <a:ext cx="2364480" cy="43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O:\Prostorno Planiranje\Karmela\PUT UP ISTRE\08_LOGOTIP\put-up_logo_color_CMYK.jpg"/>
          <p:cNvPicPr/>
          <p:nvPr/>
        </p:nvPicPr>
        <p:blipFill>
          <a:blip r:embed="rId3"/>
          <a:stretch/>
        </p:blipFill>
        <p:spPr>
          <a:xfrm>
            <a:off x="8749800" y="44640"/>
            <a:ext cx="1522440" cy="863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18316" t="16244" r="33853" b="12879"/>
          <a:stretch/>
        </p:blipFill>
        <p:spPr>
          <a:xfrm>
            <a:off x="1993680" y="116640"/>
            <a:ext cx="789480" cy="935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1080" y="1350000"/>
            <a:ext cx="8229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hr-HR" sz="3600" spc="-1" strike="noStrike">
                <a:solidFill>
                  <a:srgbClr val="000000"/>
                </a:solidFill>
                <a:latin typeface="Calibri Light"/>
              </a:rPr>
              <a:t>Provedene aktivnosti_RP3</a:t>
            </a:r>
            <a:endParaRPr b="0" lang="sr-Latn-R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1080" y="2205000"/>
            <a:ext cx="8229240" cy="39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36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Nabava usluge izrade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ELABORATA ZAŠTITE OKOLIŠA</a:t>
            </a: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upućeni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pozivi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za dostavu ponude na tri adrese;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zaprimljena je jedna važeća ponuda te je ista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odabrana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kao najbolja ponuda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Pregovaračko izvješće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za postupke sa samo jednom ponudom;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pripremljene i dostavljene podloge potrebne za izradu Elaborata te je s ponuditeljem potpisan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ugovor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o izradi Elaborata;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zaprimljeni izrađeni Elaborat zaštite okoliša proslijeđen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ministarstvu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na ocjenu o potrebi procjene utjecaja na okoliš.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O:\Prostorno Planiranje\Karmela\PUT UP ISTRE\08_LOGOTIP\logo\si-hr_logo_croatian_hr\4C\OP_SI-HR_hr_rgb.jpg"/>
          <p:cNvPicPr/>
          <p:nvPr/>
        </p:nvPicPr>
        <p:blipFill>
          <a:blip r:embed="rId1"/>
          <a:stretch/>
        </p:blipFill>
        <p:spPr>
          <a:xfrm>
            <a:off x="4943880" y="188640"/>
            <a:ext cx="2345040" cy="57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O:\Prostorno Planiranje\Karmela\PUT UP ISTRE\08_LOGOTIP\logo\si-hr_public_croatian_hr\4C_RGB\OP_SI-HR_INVESTING_cro_RGB.jpg"/>
          <p:cNvPicPr/>
          <p:nvPr/>
        </p:nvPicPr>
        <p:blipFill>
          <a:blip r:embed="rId2"/>
          <a:stretch/>
        </p:blipFill>
        <p:spPr>
          <a:xfrm>
            <a:off x="4943880" y="6237360"/>
            <a:ext cx="2364480" cy="431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O:\Prostorno Planiranje\Karmela\PUT UP ISTRE\08_LOGOTIP\put-up_logo_color_CMYK.jpg"/>
          <p:cNvPicPr/>
          <p:nvPr/>
        </p:nvPicPr>
        <p:blipFill>
          <a:blip r:embed="rId3"/>
          <a:stretch/>
        </p:blipFill>
        <p:spPr>
          <a:xfrm>
            <a:off x="8749800" y="44640"/>
            <a:ext cx="1522440" cy="863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4"/>
          <a:srcRect l="18316" t="16244" r="33853" b="12879"/>
          <a:stretch/>
        </p:blipFill>
        <p:spPr>
          <a:xfrm>
            <a:off x="1993680" y="116640"/>
            <a:ext cx="789480" cy="935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81080" y="1350000"/>
            <a:ext cx="8229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hr-HR" sz="3600" spc="-1" strike="noStrike">
                <a:solidFill>
                  <a:srgbClr val="000000"/>
                </a:solidFill>
                <a:latin typeface="Calibri Light"/>
              </a:rPr>
              <a:t>Provedene aktivnosti_RP3</a:t>
            </a:r>
            <a:endParaRPr b="0" lang="sr-Latn-R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81080" y="2205000"/>
            <a:ext cx="8229240" cy="37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999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Nabava rob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ARCGIS MREŽNA LICENCA</a:t>
            </a: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upućeni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pozivi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za dostavu ponude na tri adrese;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zaprimljena je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jedna važeća ponuda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te je ista odabrana kao najbolja ponuda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Pregovaračko izvješće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za postupke sa samo jednom ponudom;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ponuditelju poslana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narudžbenica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zaprimljeni materijali nužni za instalaciju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izvršena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instalacija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programa na računalima.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36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Sastanak u Puli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, 20.07.2015.</a:t>
            </a: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36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Grad Pula - Gradska općina Kopar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prijenos dobre prakse iz Kopra;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3600"/>
              </a:lnSpc>
              <a:spcBef>
                <a:spcPts val="1001"/>
              </a:spcBef>
              <a:buNone/>
            </a:pPr>
            <a:endParaRPr b="0" lang="sr-Latn-R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sr-Latn-R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O:\Prostorno Planiranje\Karmela\PUT UP ISTRE\08_LOGOTIP\logo\si-hr_logo_croatian_hr\4C\OP_SI-HR_hr_rgb.jpg"/>
          <p:cNvPicPr/>
          <p:nvPr/>
        </p:nvPicPr>
        <p:blipFill>
          <a:blip r:embed="rId1"/>
          <a:stretch/>
        </p:blipFill>
        <p:spPr>
          <a:xfrm>
            <a:off x="4943880" y="188640"/>
            <a:ext cx="2345040" cy="575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O:\Prostorno Planiranje\Karmela\PUT UP ISTRE\08_LOGOTIP\logo\si-hr_public_croatian_hr\4C_RGB\OP_SI-HR_INVESTING_cro_RGB.jpg"/>
          <p:cNvPicPr/>
          <p:nvPr/>
        </p:nvPicPr>
        <p:blipFill>
          <a:blip r:embed="rId2"/>
          <a:stretch/>
        </p:blipFill>
        <p:spPr>
          <a:xfrm>
            <a:off x="4943880" y="6237360"/>
            <a:ext cx="2364480" cy="431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O:\Prostorno Planiranje\Karmela\PUT UP ISTRE\08_LOGOTIP\put-up_logo_color_CMYK.jpg"/>
          <p:cNvPicPr/>
          <p:nvPr/>
        </p:nvPicPr>
        <p:blipFill>
          <a:blip r:embed="rId3"/>
          <a:stretch/>
        </p:blipFill>
        <p:spPr>
          <a:xfrm>
            <a:off x="8749800" y="44640"/>
            <a:ext cx="1522440" cy="86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4"/>
          <a:srcRect l="18316" t="16244" r="33853" b="12879"/>
          <a:stretch/>
        </p:blipFill>
        <p:spPr>
          <a:xfrm>
            <a:off x="1993680" y="116640"/>
            <a:ext cx="789480" cy="935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81080" y="1350000"/>
            <a:ext cx="8229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hr-HR" sz="3600" spc="-1" strike="noStrike">
                <a:solidFill>
                  <a:srgbClr val="000000"/>
                </a:solidFill>
                <a:latin typeface="Calibri Light"/>
              </a:rPr>
              <a:t>Provedene aktivnosti_RP4</a:t>
            </a:r>
            <a:endParaRPr b="0" lang="sr-Latn-R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81080" y="2205000"/>
            <a:ext cx="822924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Press konferencija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u Puli, 18.05.2015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potpisivanje Sporazuma o partnerstvu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marL="685800" indent="0">
              <a:lnSpc>
                <a:spcPts val="2999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36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sr-Latn-R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sr-Latn-R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O:\Prostorno Planiranje\Karmela\PUT UP ISTRE\08_LOGOTIP\logo\si-hr_logo_croatian_hr\4C\OP_SI-HR_hr_rgb.jpg"/>
          <p:cNvPicPr/>
          <p:nvPr/>
        </p:nvPicPr>
        <p:blipFill>
          <a:blip r:embed="rId1"/>
          <a:stretch/>
        </p:blipFill>
        <p:spPr>
          <a:xfrm>
            <a:off x="4943880" y="188640"/>
            <a:ext cx="2345040" cy="575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O:\Prostorno Planiranje\Karmela\PUT UP ISTRE\08_LOGOTIP\logo\si-hr_public_croatian_hr\4C_RGB\OP_SI-HR_INVESTING_cro_RGB.jpg"/>
          <p:cNvPicPr/>
          <p:nvPr/>
        </p:nvPicPr>
        <p:blipFill>
          <a:blip r:embed="rId2"/>
          <a:stretch/>
        </p:blipFill>
        <p:spPr>
          <a:xfrm>
            <a:off x="4943880" y="6237360"/>
            <a:ext cx="2364480" cy="431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O:\Prostorno Planiranje\Karmela\PUT UP ISTRE\08_LOGOTIP\put-up_logo_color_CMYK.jpg"/>
          <p:cNvPicPr/>
          <p:nvPr/>
        </p:nvPicPr>
        <p:blipFill>
          <a:blip r:embed="rId3"/>
          <a:stretch/>
        </p:blipFill>
        <p:spPr>
          <a:xfrm>
            <a:off x="8749800" y="44640"/>
            <a:ext cx="1522440" cy="86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4"/>
          <a:srcRect l="18316" t="16244" r="33853" b="12879"/>
          <a:stretch/>
        </p:blipFill>
        <p:spPr>
          <a:xfrm>
            <a:off x="1993680" y="116640"/>
            <a:ext cx="789480" cy="935640"/>
          </a:xfrm>
          <a:prstGeom prst="rect">
            <a:avLst/>
          </a:prstGeom>
          <a:ln w="9525">
            <a:noFill/>
          </a:ln>
        </p:spPr>
      </p:pic>
      <p:sp>
        <p:nvSpPr>
          <p:cNvPr id="112" name="Content Placeholder 2"/>
          <p:cNvSpPr/>
          <p:nvPr/>
        </p:nvSpPr>
        <p:spPr>
          <a:xfrm>
            <a:off x="1981080" y="3933000"/>
            <a:ext cx="82292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4000"/>
          </a:bodyPr>
          <a:p>
            <a:pPr marL="348480" indent="-348480">
              <a:lnSpc>
                <a:spcPts val="36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Ažuriranje dokumentacije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iz prijavnice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tekstualne izmjene, dostava informativnih ponu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8480" indent="-348480">
              <a:lnSpc>
                <a:spcPts val="36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Prezentacija projekta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zainteresiranim čimbenicima unutar Grada P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8480" indent="-348480">
              <a:lnSpc>
                <a:spcPts val="36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Priprema odgovora na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novinarska pitanja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vezana uz financiranje Grada Pule u sklopu projek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8480" indent="-348480">
              <a:lnSpc>
                <a:spcPts val="36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Ishođeno oslobođenje od plaćanja PDV-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8480" indent="-348480">
              <a:lnSpc>
                <a:spcPts val="36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tle 1"/>
          <p:cNvSpPr/>
          <p:nvPr/>
        </p:nvSpPr>
        <p:spPr>
          <a:xfrm>
            <a:off x="2135520" y="3222000"/>
            <a:ext cx="82292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0" lang="hr-HR" sz="3600" spc="-1" strike="noStrike">
                <a:solidFill>
                  <a:srgbClr val="000000"/>
                </a:solidFill>
                <a:latin typeface="Calibri Light"/>
              </a:rPr>
              <a:t>Ostale provedene aktivnos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1080" y="1350000"/>
            <a:ext cx="8229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hr-HR" sz="3600" spc="-1" strike="noStrike">
                <a:solidFill>
                  <a:srgbClr val="000000"/>
                </a:solidFill>
                <a:latin typeface="Calibri Light"/>
              </a:rPr>
              <a:t>Aktivnosti u tijeku/planirane aktivnosti</a:t>
            </a:r>
            <a:endParaRPr b="0" lang="sr-Latn-R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81080" y="2205000"/>
            <a:ext cx="8002800" cy="39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36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Trenutno je u izradi dokumentacija potrebna za provedbu nabave usluge izrade          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IDEJNOG PROJEKTA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UREĐENJA RIVE U PULI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36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Tijekom sljedećih dva mjeseca planirana je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edukacija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ArcGIS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programa za dva djelatnika u trajanju od ukupno 12 dana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O:\Prostorno Planiranje\Karmela\PUT UP ISTRE\08_LOGOTIP\logo\si-hr_logo_croatian_hr\4C\OP_SI-HR_hr_rgb.jpg"/>
          <p:cNvPicPr/>
          <p:nvPr/>
        </p:nvPicPr>
        <p:blipFill>
          <a:blip r:embed="rId1"/>
          <a:stretch/>
        </p:blipFill>
        <p:spPr>
          <a:xfrm>
            <a:off x="4943880" y="188640"/>
            <a:ext cx="2345040" cy="57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O:\Prostorno Planiranje\Karmela\PUT UP ISTRE\08_LOGOTIP\logo\si-hr_public_croatian_hr\4C_RGB\OP_SI-HR_INVESTING_cro_RGB.jpg"/>
          <p:cNvPicPr/>
          <p:nvPr/>
        </p:nvPicPr>
        <p:blipFill>
          <a:blip r:embed="rId2"/>
          <a:stretch/>
        </p:blipFill>
        <p:spPr>
          <a:xfrm>
            <a:off x="4943880" y="6237360"/>
            <a:ext cx="236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O:\Prostorno Planiranje\Karmela\PUT UP ISTRE\08_LOGOTIP\put-up_logo_color_CMYK.jpg"/>
          <p:cNvPicPr/>
          <p:nvPr/>
        </p:nvPicPr>
        <p:blipFill>
          <a:blip r:embed="rId3"/>
          <a:stretch/>
        </p:blipFill>
        <p:spPr>
          <a:xfrm>
            <a:off x="8749800" y="44640"/>
            <a:ext cx="1522440" cy="863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4"/>
          <a:srcRect l="18316" t="16244" r="33853" b="12879"/>
          <a:stretch/>
        </p:blipFill>
        <p:spPr>
          <a:xfrm>
            <a:off x="1993680" y="116640"/>
            <a:ext cx="789480" cy="935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81080" y="1350000"/>
            <a:ext cx="8229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hr-HR" sz="3600" spc="-1" strike="noStrike">
                <a:solidFill>
                  <a:srgbClr val="000000"/>
                </a:solidFill>
                <a:latin typeface="Calibri Light"/>
              </a:rPr>
              <a:t>Troškovi</a:t>
            </a:r>
            <a:endParaRPr b="0" lang="sr-Latn-R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1" name="Content Placeholder 7"/>
          <p:cNvGraphicFramePr/>
          <p:nvPr/>
        </p:nvGraphicFramePr>
        <p:xfrm>
          <a:off x="2711520" y="2853000"/>
          <a:ext cx="6768360" cy="972000"/>
        </p:xfrm>
        <a:graphic>
          <a:graphicData uri="http://schemas.openxmlformats.org/drawingml/2006/table">
            <a:tbl>
              <a:tblPr/>
              <a:tblGrid>
                <a:gridCol w="3384360"/>
                <a:gridCol w="1692000"/>
                <a:gridCol w="1692000"/>
              </a:tblGrid>
              <a:tr h="32400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oškovi od 01.08.2015.do 25.09.201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t zaštite okoliš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 000 k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689,36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  <a:tr h="3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cGIS mrežna licen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 990 k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214,67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22" name="Picture 4" descr="O:\Prostorno Planiranje\Karmela\PUT UP ISTRE\08_LOGOTIP\logo\si-hr_logo_croatian_hr\4C\OP_SI-HR_hr_rgb.jpg"/>
          <p:cNvPicPr/>
          <p:nvPr/>
        </p:nvPicPr>
        <p:blipFill>
          <a:blip r:embed="rId1"/>
          <a:stretch/>
        </p:blipFill>
        <p:spPr>
          <a:xfrm>
            <a:off x="4943880" y="188640"/>
            <a:ext cx="2345040" cy="575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O:\Prostorno Planiranje\Karmela\PUT UP ISTRE\08_LOGOTIP\logo\si-hr_public_croatian_hr\4C_RGB\OP_SI-HR_INVESTING_cro_RGB.jpg"/>
          <p:cNvPicPr/>
          <p:nvPr/>
        </p:nvPicPr>
        <p:blipFill>
          <a:blip r:embed="rId2"/>
          <a:stretch/>
        </p:blipFill>
        <p:spPr>
          <a:xfrm>
            <a:off x="4943880" y="6237360"/>
            <a:ext cx="2364480" cy="431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O:\Prostorno Planiranje\Karmela\PUT UP ISTRE\08_LOGOTIP\put-up_logo_color_CMYK.jpg"/>
          <p:cNvPicPr/>
          <p:nvPr/>
        </p:nvPicPr>
        <p:blipFill>
          <a:blip r:embed="rId3"/>
          <a:stretch/>
        </p:blipFill>
        <p:spPr>
          <a:xfrm>
            <a:off x="8749800" y="44640"/>
            <a:ext cx="1522440" cy="863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4"/>
          <a:srcRect l="18316" t="16244" r="33853" b="12879"/>
          <a:stretch/>
        </p:blipFill>
        <p:spPr>
          <a:xfrm>
            <a:off x="1993680" y="116640"/>
            <a:ext cx="789480" cy="9356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26" name="Content Placeholder 7"/>
          <p:cNvGraphicFramePr/>
          <p:nvPr/>
        </p:nvGraphicFramePr>
        <p:xfrm>
          <a:off x="2711520" y="4240080"/>
          <a:ext cx="6768360" cy="683640"/>
        </p:xfrm>
        <a:graphic>
          <a:graphicData uri="http://schemas.openxmlformats.org/drawingml/2006/table">
            <a:tbl>
              <a:tblPr/>
              <a:tblGrid>
                <a:gridCol w="3384360"/>
                <a:gridCol w="1692000"/>
                <a:gridCol w="1692000"/>
              </a:tblGrid>
              <a:tr h="35676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anirane aktivnosti do 31.12.2015</a:t>
                      </a: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kacija  za korištenje ArcGIS-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422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Content Placeholder 7"/>
          <p:cNvGraphicFramePr/>
          <p:nvPr/>
        </p:nvGraphicFramePr>
        <p:xfrm>
          <a:off x="2711520" y="1989000"/>
          <a:ext cx="6768360" cy="683640"/>
        </p:xfrm>
        <a:graphic>
          <a:graphicData uri="http://schemas.openxmlformats.org/drawingml/2006/table">
            <a:tbl>
              <a:tblPr/>
              <a:tblGrid>
                <a:gridCol w="3384360"/>
                <a:gridCol w="1692000"/>
                <a:gridCol w="1692000"/>
              </a:tblGrid>
              <a:tr h="35676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oškovi od 02.02.2015.do 31.07.2015</a:t>
                      </a: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škovi osobl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de-DE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.793,51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de-DE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hr-HR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de-DE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r>
                        <a:rPr b="0" lang="hr-HR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2</a:t>
                      </a:r>
                      <a:r>
                        <a:rPr b="0" lang="de-DE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,</a:t>
                      </a:r>
                      <a:r>
                        <a:rPr b="0" lang="hr-HR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3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38640" y="2426400"/>
            <a:ext cx="9143640" cy="129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lnSpc>
                <a:spcPct val="150000"/>
              </a:lnSpc>
              <a:buNone/>
            </a:pPr>
            <a:br>
              <a:rPr sz="2000"/>
            </a:b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HVALA NA PAŽNJI</a:t>
            </a:r>
            <a:endParaRPr b="0" lang="sr-Latn-R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O:\Prostorno Planiranje\Karmela\PUT UP ISTRE\08_LOGOTIP\put-up_logo_color_CMYK.jpg"/>
          <p:cNvPicPr/>
          <p:nvPr/>
        </p:nvPicPr>
        <p:blipFill>
          <a:blip r:embed="rId1"/>
          <a:stretch/>
        </p:blipFill>
        <p:spPr>
          <a:xfrm>
            <a:off x="8750160" y="44640"/>
            <a:ext cx="1522080" cy="863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O:\Prostorno Planiranje\Karmela\PUT UP ISTRE\08_LOGOTIP\logo\si-hr_public_croatian_hr\4C_RGB\OP_SI-HR_INVESTING_cro_RGB.jpg"/>
          <p:cNvPicPr/>
          <p:nvPr/>
        </p:nvPicPr>
        <p:blipFill>
          <a:blip r:embed="rId2"/>
          <a:stretch/>
        </p:blipFill>
        <p:spPr>
          <a:xfrm>
            <a:off x="4526640" y="5949360"/>
            <a:ext cx="3153240" cy="575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O:\Prostorno Planiranje\Karmela\PUT UP ISTRE\08_LOGOTIP\logo\si-hr_logo_croatian_hr\4C\OP_SI-HR_hr_rgb.jpg"/>
          <p:cNvPicPr/>
          <p:nvPr/>
        </p:nvPicPr>
        <p:blipFill>
          <a:blip r:embed="rId3"/>
          <a:stretch/>
        </p:blipFill>
        <p:spPr>
          <a:xfrm>
            <a:off x="1847520" y="188640"/>
            <a:ext cx="2345400" cy="575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rcRect l="18316" t="16244" r="33853" b="12879"/>
          <a:stretch/>
        </p:blipFill>
        <p:spPr>
          <a:xfrm>
            <a:off x="5591880" y="1196640"/>
            <a:ext cx="1037160" cy="1229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sustava Offic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a sustava Offic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  <Words>358</Words>
  <Paragraphs>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8T13:37:26Z</dcterms:created>
  <dc:creator>Sandro Krizman</dc:creator>
  <dc:description/>
  <dc:language>en-US</dc:language>
  <cp:lastModifiedBy>Karmela Maren</cp:lastModifiedBy>
  <dcterms:modified xsi:type="dcterms:W3CDTF">2015-09-21T07:11:43Z</dcterms:modified>
  <cp:revision>3</cp:revision>
  <dc:subject/>
  <dc:title>PUT-UP ISTRE PROVEDENE AKTIVNOSTI I FINANCIJSKI IZVJEŠTAJ GRADA PU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Custom</vt:lpwstr>
  </property>
  <property fmtid="{D5CDD505-2E9C-101B-9397-08002B2CF9AE}" pid="3" name="Slides">
    <vt:r8>8</vt:r8>
  </property>
</Properties>
</file>